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8FC1-DEC5-4477-8E26-D2A19712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8CD6-A250-4488-9AA1-9AD0200D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F816-0A3E-43D7-A031-A24EAB0E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7611-8A43-4C91-A124-2E2B6110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7C85-15D4-4AD3-8F7F-FAE819FA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D8C-2C65-435C-B86E-9DB8D80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7848-C112-46ED-8EEA-647546C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6CA-0938-476D-AF73-13AADAF3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633-D0A1-4813-A352-94EAE6A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605E-A1D8-4823-A867-6B81422F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84E-74A1-4918-BB97-43DC4EF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7110-9ABF-4890-A468-B107478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9D2-52FC-41AB-BBF7-F62DBA6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1EAE-BE6A-4B93-967C-99305E4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9E85-89C1-425A-A929-61DA60B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B6F-1386-48C6-A555-8389EE4F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74A-7C2D-48A7-A54E-F2C8E8C5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EB8D-4800-4347-9622-8178C6B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10D3-8DA6-46CA-9458-7771C1C5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2359-A920-4F31-96BB-72C09A7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A2CA-8C20-49B8-8AE6-D537DDC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F4FE-623F-4B22-9AAA-FE6A0F6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62F9-1C5D-474E-BA15-BD6DEC5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7168-8369-44A5-85F8-4FBDDAC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AA05-C4F7-4445-9451-56F8ED9071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5C9-0770-4737-B33D-34D90657DE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9Z</dcterms:modified>
  <cp:revision>29</cp:revision>
  <dc:subject/>
  <dc:title>幻灯片 1</dc:title>
</cp:coreProperties>
</file>